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F12-807C-4433-BB7C-C1B2E694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B6B-37EB-4186-B6E0-C0A82BB0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1FB-716C-4D36-BE84-7128EB2C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C76-314C-4AF3-871E-44386D7F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52E-EABB-439E-BC3A-BCE33CBA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53F-FC07-4EE5-9A46-A03E5E2C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F56-D1EB-430D-A62E-F8F2361C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750-72D3-446B-A692-3A0007F9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3A3-1174-402A-82B0-974E501C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209-C434-4F3C-BEB1-70EC123C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E1C-9CBA-4067-98CB-34B75C2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6FB-530E-4402-8966-9BD907E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13D-AA3A-42E1-8CBC-22CED7A03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76280"/>
            <a:ext cx="4319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2720" y="979560"/>
            <a:ext cx="1684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2565360"/>
            <a:ext cx="4824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第二十八章一元二次方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9960" y="2152080"/>
            <a:ext cx="606960" cy="2026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0280" y="907920"/>
            <a:ext cx="5356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元二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48840" y="1989000"/>
            <a:ext cx="5356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一元二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79280" y="1093680"/>
            <a:ext cx="82080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配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79280" y="1957320"/>
            <a:ext cx="82080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公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39120" y="2965320"/>
            <a:ext cx="124740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分解因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97960" y="4365720"/>
            <a:ext cx="5356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元二次方程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14480" y="1191960"/>
            <a:ext cx="496800" cy="1212840"/>
            <a:chOff x="1014480" y="1191960"/>
            <a:chExt cx="496800" cy="1212840"/>
          </a:xfrm>
        </p:grpSpPr>
        <p:sp>
          <p:nvSpPr>
            <p:cNvPr id="52" name=""/>
            <p:cNvSpPr/>
            <p:nvPr/>
          </p:nvSpPr>
          <p:spPr>
            <a:xfrm flipV="1">
              <a:off x="1014480" y="1191960"/>
              <a:ext cx="0" cy="121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14480" y="1192320"/>
              <a:ext cx="49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916440" y="1093680"/>
            <a:ext cx="914400" cy="835200"/>
            <a:chOff x="3916440" y="1093680"/>
            <a:chExt cx="914400" cy="835200"/>
          </a:xfrm>
        </p:grpSpPr>
        <p:sp>
          <p:nvSpPr>
            <p:cNvPr id="55" name=""/>
            <p:cNvSpPr/>
            <p:nvPr/>
          </p:nvSpPr>
          <p:spPr>
            <a:xfrm>
              <a:off x="3916440" y="1093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30840" y="1093680"/>
              <a:ext cx="0" cy="83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40400" y="1311120"/>
            <a:ext cx="735120" cy="1868760"/>
            <a:chOff x="6440400" y="1311120"/>
            <a:chExt cx="735120" cy="1868760"/>
          </a:xfrm>
        </p:grpSpPr>
        <p:sp>
          <p:nvSpPr>
            <p:cNvPr id="58" name=""/>
            <p:cNvSpPr/>
            <p:nvPr/>
          </p:nvSpPr>
          <p:spPr>
            <a:xfrm>
              <a:off x="6440400" y="2225520"/>
              <a:ext cx="716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78720" y="1311120"/>
              <a:ext cx="20520" cy="186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99240" y="3179880"/>
              <a:ext cx="476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78720" y="1332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870440" y="250524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33560" y="3935520"/>
            <a:ext cx="2822400" cy="715680"/>
            <a:chOff x="1033560" y="3935520"/>
            <a:chExt cx="2822400" cy="715680"/>
          </a:xfrm>
        </p:grpSpPr>
        <p:sp>
          <p:nvSpPr>
            <p:cNvPr id="64" name=""/>
            <p:cNvSpPr/>
            <p:nvPr/>
          </p:nvSpPr>
          <p:spPr>
            <a:xfrm flipH="1">
              <a:off x="1033560" y="4632480"/>
              <a:ext cx="2822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33560" y="3935520"/>
              <a:ext cx="0" cy="715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084040" y="4097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87520" y="10382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配方法、公式法和因式分解法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68440" y="1800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配方法、公式法适用于所有的一元二次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3040" y="261288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因式分解法适用于某些一元二次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344484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　总之解一元二次方程的基本思路是：将二次方程化为一次方程，即降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000" y="4797360"/>
            <a:ext cx="1089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  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4000" y="4797360"/>
            <a:ext cx="2376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为一次方程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508464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4797360"/>
            <a:ext cx="2843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到一元一次方程的解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46040" y="4653000"/>
            <a:ext cx="12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降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/>
          <p:nvPr/>
        </p:nvCxnSpPr>
        <p:spPr>
          <a:xfrm>
            <a:off x="4500720" y="5084280"/>
            <a:ext cx="180072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43480" y="46465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解一元一次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6800" y="2909160"/>
            <a:ext cx="83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方程　　　　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正根为（　）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6320" y="13964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48080" y="1344600"/>
          <a:ext cx="247644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8080" y="1344600"/>
                    <a:ext cx="2476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314000" y="1891800"/>
            <a:ext cx="38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解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　　　　　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93840" y="343080"/>
            <a:ext cx="1472400" cy="966600"/>
            <a:chOff x="393840" y="343080"/>
            <a:chExt cx="1472400" cy="966600"/>
          </a:xfrm>
        </p:grpSpPr>
        <p:pic>
          <p:nvPicPr>
            <p:cNvPr id="84" name="" descr="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>
              <a:off x="393840" y="343080"/>
              <a:ext cx="88488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955440" y="483840"/>
              <a:ext cx="910800" cy="812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zh-CN" sz="47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练习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1589040" y="2863800"/>
          <a:ext cx="216540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9040" y="2863800"/>
                    <a:ext cx="21654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963800" y="4341960"/>
          <a:ext cx="1503360" cy="76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3800" y="4341960"/>
                    <a:ext cx="1503360" cy="76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400720" y="3430440"/>
          <a:ext cx="1503360" cy="76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00720" y="3430440"/>
                    <a:ext cx="15033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884240" y="3429000"/>
          <a:ext cx="1792440" cy="76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84240" y="3429000"/>
                    <a:ext cx="17924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419800" y="4341960"/>
          <a:ext cx="1792080" cy="76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9800" y="4341960"/>
                    <a:ext cx="17920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99320" y="35535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Ａ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5840" y="35535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Ｂ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7000" y="44650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Ｃ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75920" y="44650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2160" y="1693080"/>
            <a:ext cx="77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已知一元二次方程有一个根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那么这个方程可以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填上你认为正确的一个方程即可）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93840" y="343080"/>
            <a:ext cx="1472400" cy="966600"/>
            <a:chOff x="393840" y="343080"/>
            <a:chExt cx="1472400" cy="966600"/>
          </a:xfrm>
        </p:grpSpPr>
        <p:pic>
          <p:nvPicPr>
            <p:cNvPr id="102" name="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393840" y="343080"/>
              <a:ext cx="88488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55440" y="483840"/>
              <a:ext cx="910800" cy="812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zh-CN" sz="47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练习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" name=""/>
          <p:cNvGraphicFramePr/>
          <p:nvPr/>
        </p:nvGraphicFramePr>
        <p:xfrm>
          <a:off x="1258920" y="3191040"/>
          <a:ext cx="2863800" cy="64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191040"/>
                    <a:ext cx="28638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811160" y="4678200"/>
          <a:ext cx="2372040" cy="8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1160" y="4678200"/>
                    <a:ext cx="2372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494320" y="3754440"/>
          <a:ext cx="2371680" cy="89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4320" y="3754440"/>
                    <a:ext cx="237168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755720" y="3755880"/>
          <a:ext cx="2371680" cy="89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5720" y="3755880"/>
                    <a:ext cx="237168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702400" y="4680000"/>
          <a:ext cx="2371680" cy="89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02400" y="4680000"/>
                    <a:ext cx="237168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49200" y="278532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用配方法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69680" y="325368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经过配方，得到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61520" y="3942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Ｂ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1760" y="48650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Ｃ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88520" y="48664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7520" y="3943440"/>
            <a:ext cx="8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836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元二次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≠0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的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1879560"/>
            <a:ext cx="64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-4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方程有两个不相等的实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3753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-4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方程有两个相等的实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54799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-4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方程有没有的实数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238640" y="2511360"/>
          <a:ext cx="315288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2511360"/>
                    <a:ext cx="31528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428840" y="2517840"/>
          <a:ext cx="247176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2517840"/>
                    <a:ext cx="24717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921040" y="4359240"/>
          <a:ext cx="2511360" cy="87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1040" y="4359240"/>
                    <a:ext cx="25113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9080" y="1568880"/>
            <a:ext cx="822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已知某工厂计划经过两年的时间，把某种产品从现在的年产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台提高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2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台，那么每年平均增长的百分数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．按此年平均增长率，预计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该工厂的年产量应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台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3840" y="343080"/>
            <a:ext cx="1472400" cy="966600"/>
            <a:chOff x="393840" y="343080"/>
            <a:chExt cx="1472400" cy="966600"/>
          </a:xfrm>
        </p:grpSpPr>
        <p:pic>
          <p:nvPicPr>
            <p:cNvPr id="132" name="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393840" y="343080"/>
              <a:ext cx="88488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955440" y="483840"/>
              <a:ext cx="910800" cy="812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zh-CN" sz="47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练习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752400" y="1736640"/>
            <a:ext cx="8175600" cy="4077360"/>
            <a:chOff x="752400" y="1736640"/>
            <a:chExt cx="8175600" cy="4077360"/>
          </a:xfrm>
        </p:grpSpPr>
        <p:sp>
          <p:nvSpPr>
            <p:cNvPr id="135" name=""/>
            <p:cNvSpPr/>
            <p:nvPr/>
          </p:nvSpPr>
          <p:spPr>
            <a:xfrm>
              <a:off x="807840" y="3332880"/>
              <a:ext cx="8120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                                                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．第一年度当地旅游业收入估计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00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万元，要使三年内的投入资金与旅游业总收入持平，则旅游业收入的年平均增长率应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以下数据供选用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901440" y="2857320"/>
            <a:ext cx="290520" cy="792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01440" y="2857320"/>
                      <a:ext cx="290520" cy="7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5622840" y="2867040"/>
            <a:ext cx="309600" cy="792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22840" y="2867040"/>
                      <a:ext cx="30960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3909960" y="4914720"/>
            <a:ext cx="3166920" cy="463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09960" y="4914720"/>
                      <a:ext cx="316692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752400" y="1736640"/>
              <a:ext cx="79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从社会效益和经济效益出发，某地制定了三年规划，投入资金进行生态环境建设，并以此发展旅游产业．根据规划，第一年度投入资金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800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万元，第二年度比第一年度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2840" y="3006000"/>
              <a:ext cx="34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第三年度比第二年度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14560" y="4866840"/>
              <a:ext cx="7655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                                                          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计算结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精确到百分位）．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93840" y="343080"/>
            <a:ext cx="1472400" cy="966600"/>
            <a:chOff x="393840" y="343080"/>
            <a:chExt cx="1472400" cy="966600"/>
          </a:xfrm>
        </p:grpSpPr>
        <p:pic>
          <p:nvPicPr>
            <p:cNvPr id="146" name="" descr=""/>
            <p:cNvPicPr/>
            <p:nvPr/>
          </p:nvPicPr>
          <p:blipFill>
            <a:blip r:embed="rId8">
              <a:lum bright="36000"/>
            </a:blip>
            <a:stretch/>
          </p:blipFill>
          <p:spPr>
            <a:xfrm>
              <a:off x="393840" y="343080"/>
              <a:ext cx="88488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955440" y="483840"/>
              <a:ext cx="910800" cy="812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zh-CN" sz="47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练习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2:25:27Z</dcterms:created>
  <dc:creator>www.zk5u.com</dc:creator>
  <dc:description/>
  <dc:language>en-US</dc:language>
  <cp:lastModifiedBy>leeqin</cp:lastModifiedBy>
  <dcterms:modified xsi:type="dcterms:W3CDTF">2009-12-17T01:37:59Z</dcterms:modified>
  <cp:revision>2</cp:revision>
  <dc:subject/>
  <dc:title>1</dc:title>
</cp:coreProperties>
</file>